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D575-9EA6-4684-B21D-43A1B138C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ตัวยึดหมายเลขภาพนิ่ง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1598-D261-472A-B157-8F1409C7C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ตัวยึดหมายเลขภาพนิ่ง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1AED-22DA-4357-AC6A-7A5A0637D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ตัวยึดหมายเลขภาพนิ่ง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AFAA-A621-4A05-B507-CBCB4917E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61C-C3D3-4DC0-8F04-FA5D6B1E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AD2-13C5-4EA2-B6A4-F47D93CB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18F-0CF2-4E9B-B39D-189B9D62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AE1-79EA-47FC-90DE-7D093E7A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4A5-FF23-4DA8-AE56-5DFD4746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D00-3E64-4258-8122-41A2D770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61E-B8BC-4233-813D-02E3581D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1C9-C172-4A87-8FA8-A66B7182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11C-0FEF-4682-996C-52B56F86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D5F-9493-43D9-94FB-250D20F0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A4D-3D56-4C97-9FD6-86B671D3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E15-CF2C-4997-92CD-CD7672A1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E0BC-4071-424F-8F69-81A5F3F6A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6400800" cy="1752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ัฒนานักศึกษ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alibri"/>
                <a:cs typeface="Angsana New"/>
              </a:rPr>
              <a:t>ปัจจัยความสำเร็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จัดกิจกรรมเพื่อพัฒนานักศึกษา  เช่น  มีองค์การนักศึกษา ตั้งชมรมนักศึกษ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จัดตั้งคณะกรรมการ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หน่วยงานที่ดูแลนักศึกษา เช่น ฝ่ายพัฒนานักศึกษา  อาจารย์ที่ปรึกษา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พัฒนาบุคลากร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/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เจ้าหน้าที่ที่ดูแลนักศึกษ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บูรณการด้านวิชาการและกิจกรรมนักศึกษาเข้าด้วยกั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     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เช่น สอดแทรกในการเรียนการสอน  มีรายวิชากิจกรรม              กำหนดหน่วยกิตของกิจกรร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สร้างแรงจูงใจ เช่น  สนับสนุนงบประมาณในการจัดกิจกรรมให้นักศึกษา จัดเวทีให้นักศึกษาแสดงผลงา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alibri"/>
                <a:cs typeface="Angsana New"/>
              </a:rPr>
              <a:t>ปัจจัยความสำเร็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cs typeface="Cordia New"/>
              </a:rPr>
              <a:t>ผู้บริหารให้ความสำคัญและสนับสนุนในการจัดกิจกรรมกับนักศึกษ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cs typeface="Cordia New"/>
              </a:rPr>
              <a:t>มีเครื่องมือในการเก็บข้อมูลนักศึกษาที่เข้าร่วมกิจกรรม เช่น แบบฟอร์ม สมุดบันทึกการเข้าร่วมกิจกรรม เครื่องสแกนนิ้วมื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30:14Z</dcterms:created>
  <dc:creator>Valued Acer Customer</dc:creator>
  <dc:description/>
  <dc:language>en-US</dc:language>
  <cp:lastModifiedBy>Valued Acer Customer</cp:lastModifiedBy>
  <dcterms:modified xsi:type="dcterms:W3CDTF">2010-03-22T08:59:02Z</dcterms:modified>
  <cp:revision>8</cp:revision>
  <dc:subject/>
  <dc:title>กลุ่ม 2</dc:title>
</cp:coreProperties>
</file>